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BE3-7108-42BE-B79B-66499109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A9D-2B6D-4BD4-94BE-B5C26DBC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F08-0A4F-4AED-BBAB-E9E135D2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CE5-8F4E-4015-9637-D49C6D19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1E92-7674-4A4B-B721-F1DF2919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82CB-1699-4401-B670-4248A0C6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A80D-A22E-41D1-890A-4CDD1A63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361D-8A7B-4318-A996-ECD98A3C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91B2-345B-403A-A307-3530B9C9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14CD-F40B-4463-BAE1-191466A5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3CA6-BA95-45A4-A9BE-1FDB7628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957-B263-4E1A-A6AD-4DF88262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8F98-A494-4F40-ABD5-5F884FA5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28B4-E765-437E-9C6B-DAE0E9DB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C8F5-1596-4A83-B1E9-F4F6961F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E766-593C-489B-B1D4-2E45163C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DD15-BB6B-48DD-81B2-D01C346E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2B9-E085-4F85-A225-13494020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FBD-0F9B-4483-AA34-3A3A2B69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14C-30C3-4EFB-86BB-AE64BCBC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F60-EB40-4EAE-8EF0-2262CCD3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B12-A8AE-494A-A381-1BA182FB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123-59BB-47CB-8F08-5D54E620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A37-2BD7-4C44-8B0B-54D3809C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509B-7AF8-43BC-BF62-850886358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C62D-A826-4ACC-AA09-47AFF6664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am Handb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f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the ball for 3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bble while sta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tep foot in “Crea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roken rule results in turn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lock path to goal with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lap ball out of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lap a dribbled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tep in “Crea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all hits wall automatic turn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f ball hits wall behind goal it is goalies throw regardless of who last touched 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oul is committed it is a free throw from spot of in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fter every goal play begins with a throw off from center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score from free th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tall, have to make effort to go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4 field players pe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GK pe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00:35:02Z</dcterms:created>
  <dc:creator>spencer stanton</dc:creator>
  <dc:description/>
  <dc:language>en-US</dc:language>
  <cp:lastModifiedBy>spencer stanton</cp:lastModifiedBy>
  <dcterms:modified xsi:type="dcterms:W3CDTF">2011-04-16T16:53:10Z</dcterms:modified>
  <cp:revision>13</cp:revision>
  <dc:subject/>
  <dc:title>Badminton</dc:title>
</cp:coreProperties>
</file>